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2.jpeg" ContentType="image/jpeg"/>
  <Override PartName="/ppt/media/image37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.wmf" ContentType="image/x-wmf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8D3-D024-41BB-B268-7DF33675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59F-4C5E-4121-A4B6-88C83E3F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54A-81B8-43B4-B99D-4525CEC3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1CD-00BE-4E9A-B3E8-CF53CBE7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923B-2A97-401D-9745-8391C99D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F3DE-E977-438B-9F5C-7FC583A5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C697-D44E-4B1F-AF95-F5DE6282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ACA1-8B9B-47A4-9E09-0B3C5F50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1996-07EC-418C-9A6F-6B62BACD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F9D2-C333-4696-83B8-E360F5A8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4AF6-2AB5-4832-BB95-158FDBF3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985-7E68-4A78-8D8F-DD514DC6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FA1F-B1A4-4F6C-945B-9FAE6225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CA88-7B35-4E9C-927A-C57B14D4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BB3E-8CAA-411B-8138-69FD35F6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1F84-2ABD-4DEE-8891-A7024C69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425C-63F4-4C43-88C4-CEA3F4D2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1C7-5590-42BD-BE25-37FB53D0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C03-A1AF-444F-ABC5-39D6A70E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F7C-E650-4E28-A0F8-ABFB39CE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DAD-007E-4BD0-B719-DA9B645B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5E5-0257-464E-9746-B7A137BB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593-EDEC-4668-B0B8-2BF76649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7AF-7C22-4040-816F-5F700028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00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3278-B0CC-4A33-A02E-525BB5DE512A}" type="slidenum">
              <a:rPr b="0" lang="en-US" sz="10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54B9-DD8B-46B4-9E63-671173F7C9E0}" type="slidenum">
              <a:rPr b="0" lang="en-US" sz="10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00ffff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audio" Target="file:///tmp/home/.config/libreoffice/4/user/gallery/MS900074339%5B1%5D.wav" TargetMode="External"/><Relationship Id="rId6" Type="http://schemas.microsoft.com/office/2007/relationships/media" Target="file:///tmp/home/.config/libreoffice/4/user/gallery/MS900074339%5B1%5D.wav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audio" Target="file:///tmp/home/.config/libreoffice/4/user/gallery/MS900074923%5B1%5D.wav" TargetMode="External"/><Relationship Id="rId9" Type="http://schemas.microsoft.com/office/2007/relationships/media" Target="file:///tmp/home/.config/libreoffice/4/user/gallery/MS900074923%5B1%5D.wav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audio" Target="file:///tmp/home/.config/libreoffice/4/user/gallery/MS900075046%5B1%5D.wav" TargetMode="External"/><Relationship Id="rId8" Type="http://schemas.microsoft.com/office/2007/relationships/media" Target="file:///tmp/home/.config/libreoffice/4/user/gallery/MS900075046%5B1%5D.wav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png"/><Relationship Id="rId7" Type="http://schemas.openxmlformats.org/officeDocument/2006/relationships/audio" Target="file:///tmp/home/.config/libreoffice/4/user/gallery/MS900097488%5B1%5D.wav" TargetMode="External"/><Relationship Id="rId8" Type="http://schemas.microsoft.com/office/2007/relationships/media" Target="file:///tmp/home/.config/libreoffice/4/user/gallery/MS900097488%5B1%5D.wav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67820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Comic Sans MS"/>
              </a:rPr>
              <a:t>Las Comidas</a:t>
            </a:r>
            <a:endParaRPr b="1" lang="en-US" sz="4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066320" y="2819160"/>
            <a:ext cx="62485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Por: Carolyn Sistrand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2454120" cy="3449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419720" y="3657600"/>
            <a:ext cx="1160280" cy="2440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143000" y="228600"/>
            <a:ext cx="1273320" cy="2435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191120" y="533520"/>
            <a:ext cx="1120680" cy="1371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417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5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Para el desayuno me gusta comer y beber:</a:t>
            </a:r>
            <a:endParaRPr b="1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43434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ff"/>
                </a:solidFill>
                <a:latin typeface="Arial"/>
              </a:rPr>
              <a:t>Huevos con patatas fritas, pan blanco tostado y tocino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286000" cy="1393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0" y="1600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Café con leche y dulce y baj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80880" y="3886200"/>
            <a:ext cx="1828800" cy="1512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80880" y="3352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Bagel con mantequill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7696080" y="2209680"/>
            <a:ext cx="1081080" cy="1600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25780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Jugo de naranj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38862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Chocolate con lech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743200" y="4267080"/>
            <a:ext cx="1346040" cy="1447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4648320" y="5410080"/>
            <a:ext cx="1600200" cy="1200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724280" y="4876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roissan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6934320" y="4724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334120" y="4114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Con chispas de chocolate muffi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71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268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Para el </a:t>
            </a:r>
            <a:r>
              <a:rPr b="1" lang="es-ES" sz="2800" spc="-1" strike="noStrike">
                <a:solidFill>
                  <a:srgbClr val="00ff00"/>
                </a:solidFill>
                <a:latin typeface="Arial"/>
              </a:rPr>
              <a:t>almuerzo me gusta  comer y beber:</a:t>
            </a:r>
            <a:endParaRPr b="1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Queso a la planch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280" y="4267080"/>
            <a:ext cx="2667240" cy="1873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971800" y="5943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mburguesa con queso y papas fritas y un refresco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76720" y="3657600"/>
            <a:ext cx="2438280" cy="1833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900520" y="312336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Brócoli y sopa de queso cheddar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52280" y="1981080"/>
            <a:ext cx="2667240" cy="1774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3352680" y="1371600"/>
            <a:ext cx="2238480" cy="1676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80680" y="8373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Buffalo wrap de pollo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324480" y="1523880"/>
            <a:ext cx="2495520" cy="22464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24600" y="388548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Cualquier clase de refresco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629400" y="4267080"/>
            <a:ext cx="1941480" cy="1995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013880" y="63237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Limonad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5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r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498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5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Para la cena me gusta comer y beber:</a:t>
            </a:r>
            <a:endParaRPr b="1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04920" y="838080"/>
            <a:ext cx="2857320" cy="2190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5920" y="327672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Buffalo pollo con ensalad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2895480" cy="27050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431520" y="51807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Pollo Parm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343400" y="1219320"/>
            <a:ext cx="2514600" cy="10666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880880" y="7614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Queso quesadill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486400" y="4876920"/>
            <a:ext cx="3281400" cy="1449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643360" y="449496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El brócoli, la pasta de pollo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98600" y="18280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Lech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7391520" y="2362320"/>
            <a:ext cx="1492200" cy="19047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4343400" y="3048120"/>
            <a:ext cx="1162080" cy="1676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813840" y="259020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De sidra de manzan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3402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2971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00"/>
                </a:solidFill>
                <a:latin typeface="Arial"/>
              </a:rPr>
              <a:t>Merienda:</a:t>
            </a:r>
            <a:endParaRPr b="1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281916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Papas frita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009880" cy="1524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327360" y="411408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 manzana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48240" y="2690640"/>
            <a:ext cx="1847520" cy="1476720"/>
            <a:chOff x="3648240" y="2690640"/>
            <a:chExt cx="1847520" cy="1476720"/>
          </a:xfrm>
        </p:grpSpPr>
        <p:sp>
          <p:nvSpPr>
            <p:cNvPr id="205" name=""/>
            <p:cNvSpPr txBox="1"/>
            <p:nvPr/>
          </p:nvSpPr>
          <p:spPr>
            <a:xfrm>
              <a:off x="3648240" y="2690640"/>
              <a:ext cx="1847520" cy="14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019920" y="4648320"/>
            <a:ext cx="2286000" cy="1904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79960" y="312336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Las Naranja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819520" y="3886200"/>
            <a:ext cx="2495520" cy="1952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250680" y="1370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Las uva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5715000" y="1905120"/>
            <a:ext cx="2286000" cy="1962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431880" y="22089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Queso palo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2819520" y="380880"/>
            <a:ext cx="2400120" cy="1476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5680" y="4037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Trix yogur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0" y="4419720"/>
            <a:ext cx="2090880" cy="1647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r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862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5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2666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Postre:</a:t>
            </a:r>
            <a:endParaRPr b="1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27636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lado de chocolate</a:t>
            </a:r>
            <a:r>
              <a:rPr b="0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1606320" cy="2316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124080" y="1143000"/>
            <a:ext cx="2819520" cy="1871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707880" y="19803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dy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981080" y="4800600"/>
            <a:ext cx="2114640" cy="15908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756080" y="649044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Pastelitos de chocolat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5105520" y="4038480"/>
            <a:ext cx="3124080" cy="2070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7400" y="342828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Las galletas con chispas de chocolat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54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33360" y="609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ff00"/>
                </a:solidFill>
                <a:latin typeface="Arial"/>
              </a:rPr>
              <a:t>El fin!</a:t>
            </a:r>
            <a:endParaRPr b="1" lang="en-US" sz="9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495680" y="3200400"/>
            <a:ext cx="4300560" cy="2862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3138480" cy="303840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4:06Z</dcterms:created>
  <dc:creator>sistrandcar</dc:creator>
  <dc:description/>
  <dc:language>en-US</dc:language>
  <cp:lastModifiedBy>sistrandcar</cp:lastModifiedBy>
  <dcterms:modified xsi:type="dcterms:W3CDTF">2011-04-14T15:05:48Z</dcterms:modified>
  <cp:revision>3</cp:revision>
  <dc:subject/>
  <dc:title>Las Comidas</dc:title>
</cp:coreProperties>
</file>